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1577-93EE-4BBD-832F-143EAA970F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90C5-AC41-4BC3-B824-D7C40FFF43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ekend is about delivering growth within the Explorer sections and programme is just one of the ways in which you can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ably the most interesting and exciting way to help grow the section, but also one of the most challenging for a number of reason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t – whilst Explorers can’t attend, they will be able to sign up whilst they are in Explorers and it’s good to highlight there is a next step.</a:t>
            </a: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755B-B9AA-451E-B652-FE898C019E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verway – for the upper end of explorer age 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is should be pushed for those Exp who don’t get selected for Ja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y opinion it offers a richer experience as they are forced to be more independent and integrate with Scouts from othe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well known or advertised so make sure you keep an eye out for it!</a:t>
            </a: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D593-73EF-42B6-B1D9-F83AB63011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er Belt – fantastic way to offer international opportunities, but also a great way to recognise their achievement in completing such a challeng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 Jamborees – such a Danish Jambo, speak to Neil and Martin about this as they took Explorers from Macc &amp; C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you could organise your own camp abroad, there are a number of companies geared up to help you achieve this if you need the help.</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AFB2-654B-4BFF-A9D2-6A7C108C96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create a culture of achievement and recognising achievement within Chesh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gnition of what Explorers have done is tremendously important, especially as they near 18 with things such as UCAS applications, CVs and job interviews come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wards we should be focusing on are Chief Scout Platinum &amp; Diamond, Explorer Belt, DoE and the initial stages of QSA as a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earch conducted by HQ has found they aren’t interested in getting an arm full of badges (although there are always exceptions).</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6E27-1099-4DFB-A84A-36595A871C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BEDC-84D0-4164-989B-4D4AE10103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5A6F-CEDB-4650-98BE-B3FC9AA2C6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 Programmes – what did they enjoy doing la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s Online – has pre-prepared activities and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es in a Box – fully planned evening available hopefully soon. For those nights when you’re really strug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dicated Explorer Resources from HQ are hopefully coming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uting Magaz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 from other Units in your District and Cheshire – a lot of very good explorer leaders in the room, everyone must have some great activities.</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12F8-130C-4192-B42A-5F951EC634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FA1D-21BB-4271-A7FE-B8AB2D51CC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feeder Scout Troops are the easiest way to bolster your Exp numbers. But you need to attract them! It’s so important that you build strong relationships with these Tro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important to have strong links with your local Network – this can help Explorers to see that there is a next step and that Scouting doesn’t end at 18. This may help encourage them to stay in Explorers.</a:t>
            </a: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D794-FF39-4097-8DFE-BF33F39691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like to leave you with one final th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we have to explain and try to convince 14 to 18 year olds why they should join Explo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n’t it be great if we could get to the point where 14 – 18 years olds think, why the hell </a:t>
            </a:r>
            <a:r>
              <a:rPr b="1" lang="en-US" sz="1200" spc="-1" strike="noStrike">
                <a:solidFill>
                  <a:srgbClr val="000000"/>
                </a:solidFill>
                <a:latin typeface="Arial"/>
              </a:rPr>
              <a:t>wouldn’t</a:t>
            </a:r>
            <a:r>
              <a:rPr b="0" lang="en-US" sz="1200" spc="-1" strike="noStrike">
                <a:solidFill>
                  <a:srgbClr val="000000"/>
                </a:solidFill>
                <a:latin typeface="Arial"/>
              </a:rPr>
              <a:t> I join Explorers?</a:t>
            </a: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0478-0205-4925-8A42-AAE9BBF620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st of you will know, you can’t run a Scout programme at Explorers, it needs to be a step up, otherwise why bother coming for the same thing for another 4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nture – lots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credibly important that we recognise the achievement of young people. It helps make them feel what they are doing is worth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 should be youth led in partnership with adults – this is the TSA vision of what Scouting should be in 20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d – whilst it’s important to have adventure and outdoor activities in the programme, a balance must be stru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all had those nights where we turn up and think, I’d really rather not be here tonight. You are completely entitles to have nights like this. But it is so important that you enjoy what you’re doing as your enthusiasm, passion and encouragement will show through and is infectious!</a:t>
            </a:r>
            <a:endParaRPr b="0" lang="en-US" sz="1200" spc="-1" strike="noStrike">
              <a:solidFill>
                <a:srgbClr val="000000"/>
              </a:solidFill>
              <a:latin typeface="Arial"/>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FFF2-CBA1-44F0-9EC9-F7BBB3CD94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uting on steroids!!! It needs to be harder than Scouts and it needs to appear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ling, rock climbing, canoeing etc. These are the big activites which really showcase sco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ping – young people love camping! So lets offer them the opport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y &amp; National events – these are covered in a later session, but certainly offer another angle for your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 in my opinion, one of the top reasons to join Scou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need to do more activities independently, it helps them take responsibility and also value what they are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n’t children anymore, Explorers need mental stimulation, particularly the older Explorers</a:t>
            </a:r>
            <a:endParaRPr b="0" lang="en-US" sz="1200" spc="-1" strike="noStrike">
              <a:solidFill>
                <a:srgbClr val="000000"/>
              </a:solidFill>
              <a:latin typeface="Arial"/>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7B98-D2BE-4C1E-8AB1-E2D0495B4A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Camps – great way to help develop young people, away from home and thei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ol style camps provide the opportunity for Explorers to plan and lead their own c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have a mixture of ages ranges so that you have responsible older Ex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 without leaders being their most of the time, can be achieved through the even passport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1D75-C286-4FEE-9027-A54D525023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1066680" y="243792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106668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41136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5604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06668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41136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75604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1066680" y="2437920"/>
            <a:ext cx="693432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1066680" y="2437920"/>
            <a:ext cx="69343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69343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6934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1066680" y="2437920"/>
            <a:ext cx="693432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mailto:hannah.lapworth@cheshirescouts.org.uk"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000" y="1268280"/>
            <a:ext cx="7559640" cy="432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Workshop 3</a:t>
            </a:r>
            <a:br>
              <a:rPr sz="3600"/>
            </a:br>
            <a:br>
              <a:rPr sz="3600"/>
            </a:br>
            <a:r>
              <a:rPr b="1" lang="en-GB" sz="3600" spc="-1" strike="noStrike">
                <a:solidFill>
                  <a:srgbClr val="000000"/>
                </a:solidFill>
                <a:latin typeface="Verdana"/>
              </a:rPr>
              <a:t>Programme Writing to Support Growth in Scouting</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tional</a:t>
            </a:r>
            <a:endParaRPr b="0" lang="en-US" sz="2800" spc="-1" strike="noStrike">
              <a:solidFill>
                <a:srgbClr val="000000"/>
              </a:solidFill>
              <a:latin typeface="Verdana"/>
            </a:endParaRPr>
          </a:p>
        </p:txBody>
      </p:sp>
      <p:sp>
        <p:nvSpPr>
          <p:cNvPr id="65" name=""/>
          <p:cNvSpPr txBox="1"/>
          <p:nvPr/>
        </p:nvSpPr>
        <p:spPr>
          <a:xfrm>
            <a:off x="1066680" y="2437920"/>
            <a:ext cx="6934320" cy="3048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boree</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 201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14 – 17</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places</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land 2017</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18 – 25</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nce they leave Explor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5">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5">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5">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5">
                                            <p:txEl>
                                              <p:pRg st="4" end="4"/>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5">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65">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tional</a:t>
            </a:r>
            <a:endParaRPr b="0" lang="en-US" sz="2800" spc="-1" strike="noStrike">
              <a:solidFill>
                <a:srgbClr val="000000"/>
              </a:solidFill>
              <a:latin typeface="Verdana"/>
            </a:endParaRPr>
          </a:p>
        </p:txBody>
      </p:sp>
      <p:sp>
        <p:nvSpPr>
          <p:cNvPr id="67"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verwa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201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 16 – 2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used for those who don’t get selected for Jambore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er experi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well known or advertised so look out for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7">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7">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7">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7">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national</a:t>
            </a:r>
            <a:endParaRPr b="0" lang="en-US" sz="2800" spc="-1" strike="noStrike">
              <a:solidFill>
                <a:srgbClr val="000000"/>
              </a:solidFill>
              <a:latin typeface="Verdana"/>
            </a:endParaRPr>
          </a:p>
        </p:txBody>
      </p:sp>
      <p:sp>
        <p:nvSpPr>
          <p:cNvPr id="69"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 Be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ry Jambore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e your own camp abroad? Jeka, Travel Places can help yo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
                                            <p:txEl>
                                              <p:pRg st="0" end="0"/>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9">
                                            <p:txEl>
                                              <p:pRg st="1" end="1"/>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9">
                                            <p:txEl>
                                              <p:pRg st="2" end="2"/>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chievements = Awards</a:t>
            </a:r>
            <a:endParaRPr b="0" lang="en-US" sz="2800" spc="-1" strike="noStrike">
              <a:solidFill>
                <a:srgbClr val="000000"/>
              </a:solidFill>
              <a:latin typeface="Verdana"/>
            </a:endParaRPr>
          </a:p>
        </p:txBody>
      </p:sp>
      <p:sp>
        <p:nvSpPr>
          <p:cNvPr id="71"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 of achiev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for their future (UCAS, CVs,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should be 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Scout Platinum &amp; Diamo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 Be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A (initial stages as a </a:t>
            </a:r>
            <a:r>
              <a:rPr b="0" lang="en-US" sz="2000" spc="-1" strike="noStrike" u="sng">
                <a:solidFill>
                  <a:srgbClr val="000000"/>
                </a:solidFill>
                <a:uFillTx/>
                <a:latin typeface="Arial"/>
              </a:rPr>
              <a:t>minimum</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1">
                                            <p:txEl>
                                              <p:pRg st="2" end="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7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480"/>
            <a:ext cx="7772400" cy="29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ow do we push the awards more and further integrate them in our programmes?</a:t>
            </a:r>
            <a:endParaRPr b="0" lang="en-US" sz="4400" spc="-1" strike="noStrike">
              <a:solidFill>
                <a:srgbClr val="000000"/>
              </a:solidFill>
              <a:latin typeface="Verdana"/>
            </a:endParaRPr>
          </a:p>
        </p:txBody>
      </p:sp>
      <p:sp>
        <p:nvSpPr>
          <p:cNvPr id="73"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42920" y="184464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3 Outcomes – Integrating awards into our programmes</a:t>
            </a:r>
            <a:endParaRPr b="0" lang="en-US" sz="2400" spc="-1" strike="noStrike">
              <a:solidFill>
                <a:srgbClr val="000000"/>
              </a:solidFill>
              <a:latin typeface="Verdana"/>
            </a:endParaRPr>
          </a:p>
        </p:txBody>
      </p:sp>
      <p:sp>
        <p:nvSpPr>
          <p:cNvPr id="75" name=""/>
          <p:cNvSpPr txBox="1"/>
          <p:nvPr/>
        </p:nvSpPr>
        <p:spPr>
          <a:xfrm>
            <a:off x="755280" y="2492280"/>
            <a:ext cx="3600360" cy="3889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ve good access to resources and Leaders with nights away permi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t realistic target d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ld award planning meetin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list parents to help administrate the awards. Might be happy to come down to a Unit night once a month and update the reco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ep it simp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ow who to go to for awards help/advice</a:t>
            </a:r>
            <a:endParaRPr b="0" lang="en-US" sz="16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
          <p:cNvSpPr txBox="1"/>
          <p:nvPr/>
        </p:nvSpPr>
        <p:spPr>
          <a:xfrm>
            <a:off x="4284720" y="2492280"/>
            <a:ext cx="4464000" cy="38894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ld an EDofE update meeting and invite participants to attend and sit at computers to update their records with your help</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me Districts have a separate Unit who just deal with awards expedition advice and plann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sure Explorers know expeditions don’t have just be “walk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corporate training into the program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sh “Doing the Scout Awards and getting DofE for fre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ighlight what you get out of the award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courage Explorers to share good awards presentations with the rest of their Un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th led in partnership with adults</a:t>
            </a:r>
            <a:endParaRPr b="0" lang="en-US" sz="2800" spc="-1" strike="noStrike">
              <a:solidFill>
                <a:srgbClr val="000000"/>
              </a:solidFill>
              <a:latin typeface="Verdana"/>
            </a:endParaRPr>
          </a:p>
        </p:txBody>
      </p:sp>
      <p:sp>
        <p:nvSpPr>
          <p:cNvPr id="78"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 over to Kar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How can we make our programme youth led?</a:t>
            </a:r>
            <a:endParaRPr b="0" lang="en-US" sz="4000" spc="-1" strike="noStrike">
              <a:solidFill>
                <a:srgbClr val="000000"/>
              </a:solidFill>
              <a:latin typeface="Verdana"/>
            </a:endParaRPr>
          </a:p>
        </p:txBody>
      </p:sp>
      <p:sp>
        <p:nvSpPr>
          <p:cNvPr id="80"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71640" y="1773360"/>
            <a:ext cx="768168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4 Outcomes – Youth Led Programme</a:t>
            </a:r>
            <a:endParaRPr b="0" lang="en-US" sz="2400" spc="-1" strike="noStrike">
              <a:solidFill>
                <a:srgbClr val="000000"/>
              </a:solidFill>
              <a:latin typeface="Verdana"/>
            </a:endParaRPr>
          </a:p>
        </p:txBody>
      </p:sp>
      <p:sp>
        <p:nvSpPr>
          <p:cNvPr id="82" name=""/>
          <p:cNvSpPr txBox="1"/>
          <p:nvPr/>
        </p:nvSpPr>
        <p:spPr>
          <a:xfrm>
            <a:off x="1066680" y="2204640"/>
            <a:ext cx="3391200" cy="374508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ve a Unit Exec to work with Leaders to decide the direction of the Unit</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olve them in costing so they can see why some activities may be picked over others etc</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tilise all age groups so that your whole Explorer planning team doesn’t turn 18 and leave so you’re back to square on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t be afraid to let them learn through failure</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ive ideas to support them to cover all programme areas – keep it balanced</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txBox="1"/>
          <p:nvPr/>
        </p:nvSpPr>
        <p:spPr>
          <a:xfrm>
            <a:off x="4610160" y="2204640"/>
            <a:ext cx="4209840" cy="3745080"/>
          </a:xfrm>
          <a:prstGeom prst="rect">
            <a:avLst/>
          </a:prstGeom>
          <a:noFill/>
          <a:ln w="0">
            <a:noFill/>
          </a:ln>
        </p:spPr>
        <p:txBody>
          <a:bodyPr anchor="t">
            <a:normAutofit fontScale="92000"/>
          </a:bodyPr>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ir up experienced/inexperienced Explorers to plan things together</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ve a can do attitude and encourage it in other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 mentoring and coaching</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ke small progressive changes to your Unit, things aren’t all going to change at once. Provide the Explorers with the opportunity to take over and start running activitie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y to their strength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ycle the system so they can do research and reuse material/resources</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k them to volunteer to run something, you’ll be surprised at how many are keen!</a:t>
            </a:r>
            <a:endParaRPr b="0" lang="en-US" sz="1600" spc="-1" strike="noStrike">
              <a:solidFill>
                <a:srgbClr val="000000"/>
              </a:solidFill>
              <a:latin typeface="Arial"/>
            </a:endParaRPr>
          </a:p>
          <a:p>
            <a:pPr marL="315360" indent="-315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lanced</a:t>
            </a:r>
            <a:r>
              <a:rPr b="0" lang="nl-NL" sz="2800" spc="-1" strike="noStrike">
                <a:solidFill>
                  <a:srgbClr val="000000"/>
                </a:solidFill>
                <a:latin typeface="Verdana"/>
              </a:rPr>
              <a:t> Programme</a:t>
            </a:r>
            <a:endParaRPr b="0" lang="en-US" sz="2800" spc="-1" strike="noStrike">
              <a:solidFill>
                <a:srgbClr val="000000"/>
              </a:solidFill>
              <a:latin typeface="Verdana"/>
            </a:endParaRPr>
          </a:p>
        </p:txBody>
      </p:sp>
      <p:sp>
        <p:nvSpPr>
          <p:cNvPr id="85"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offer a programme which is attractive to all 14 – 18 year ol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of them enjoy the outdoor activities as much as ot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verview</a:t>
            </a:r>
            <a:endParaRPr b="0" lang="en-US" sz="2800" spc="-1" strike="noStrike">
              <a:solidFill>
                <a:srgbClr val="000000"/>
              </a:solidFill>
              <a:latin typeface="Verdana"/>
            </a:endParaRPr>
          </a:p>
        </p:txBody>
      </p:sp>
      <p:sp>
        <p:nvSpPr>
          <p:cNvPr id="47"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an irresistible programme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deliver an irresistible program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resources are available to support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etter share programme ideas and resources in Chesh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400" cy="295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tools are available to assist leaders in creating an irresistible programm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ols available</a:t>
            </a:r>
            <a:endParaRPr b="0" lang="en-US" sz="2800" spc="-1" strike="noStrike">
              <a:solidFill>
                <a:srgbClr val="000000"/>
              </a:solidFill>
              <a:latin typeface="Verdana"/>
            </a:endParaRPr>
          </a:p>
        </p:txBody>
      </p:sp>
      <p:sp>
        <p:nvSpPr>
          <p:cNvPr id="88"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Program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s On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s in a Box (hopefully so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uting Magaz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from other Units in your District and Chesh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480"/>
            <a:ext cx="7772400" cy="216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How do we better share programme resources within Cheshire?</a:t>
            </a:r>
            <a:endParaRPr b="0" lang="en-US" sz="4000" spc="-1" strike="noStrike">
              <a:solidFill>
                <a:srgbClr val="000000"/>
              </a:solidFill>
              <a:latin typeface="Verdana"/>
            </a:endParaRPr>
          </a:p>
        </p:txBody>
      </p:sp>
      <p:sp>
        <p:nvSpPr>
          <p:cNvPr id="90"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920" y="1916280"/>
            <a:ext cx="7539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5 Outcomes – Sharing programme resources in Cheshire</a:t>
            </a:r>
            <a:endParaRPr b="0" lang="en-US" sz="2400" spc="-1" strike="noStrike">
              <a:solidFill>
                <a:srgbClr val="000000"/>
              </a:solidFill>
              <a:latin typeface="Verdana"/>
            </a:endParaRPr>
          </a:p>
        </p:txBody>
      </p:sp>
      <p:sp>
        <p:nvSpPr>
          <p:cNvPr id="92" name=""/>
          <p:cNvSpPr txBox="1"/>
          <p:nvPr/>
        </p:nvSpPr>
        <p:spPr>
          <a:xfrm>
            <a:off x="1187280" y="2491920"/>
            <a:ext cx="6934320" cy="37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Dropbox – email </a:t>
            </a:r>
            <a:r>
              <a:rPr b="0" lang="en-GB" sz="1800" spc="-1" strike="noStrike" u="sng">
                <a:solidFill>
                  <a:srgbClr val="009999"/>
                </a:solidFill>
                <a:uFillTx/>
                <a:latin typeface="Arial"/>
                <a:hlinkClick r:id="rId1"/>
              </a:rPr>
              <a:t>hannah.lapworth@cheshirescouts.org.uk</a:t>
            </a:r>
            <a:r>
              <a:rPr b="0" lang="en-GB" sz="1800" spc="-1" strike="noStrike">
                <a:solidFill>
                  <a:srgbClr val="000000"/>
                </a:solidFill>
                <a:latin typeface="Arial"/>
              </a:rPr>
              <a:t> to request access (password protec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are Useful Contacts list for activities etc to utilise available businesses/venues/campsi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ine Scout Manager has a programme sharing option, hopefully will be developed into the Project Compass – the new Scout database system being launched so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ums / messageboar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heshire Explorer Leader Team” Facebook group – request access directly from the group onli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rther Explorer Leader weekends to learn from eachoth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lk to each other </a:t>
            </a:r>
            <a:r>
              <a:rPr b="0" lang="en-GB" sz="1800" spc="-1" strike="noStrike">
                <a:solidFill>
                  <a:srgbClr val="000000"/>
                </a:solidFill>
                <a:latin typeface="Wingdings"/>
                <a:ea typeface="Wingding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other things to think about…</a:t>
            </a:r>
            <a:endParaRPr b="0" lang="en-US" sz="2800" spc="-1" strike="noStrike">
              <a:solidFill>
                <a:srgbClr val="000000"/>
              </a:solidFill>
              <a:latin typeface="Verdana"/>
            </a:endParaRPr>
          </a:p>
        </p:txBody>
      </p:sp>
      <p:sp>
        <p:nvSpPr>
          <p:cNvPr id="94"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In (Scou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On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ap</a:t>
            </a:r>
            <a:endParaRPr b="0" lang="en-US" sz="2800" spc="-1" strike="noStrike">
              <a:solidFill>
                <a:srgbClr val="000000"/>
              </a:solidFill>
              <a:latin typeface="Verdana"/>
            </a:endParaRPr>
          </a:p>
        </p:txBody>
      </p:sp>
      <p:sp>
        <p:nvSpPr>
          <p:cNvPr id="96"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n irresistible program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ing Adventure through bigger and tougher activities and experien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hievement through Awar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Led to drive a sense of independ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d so that it appeals to every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2920" y="1773360"/>
            <a:ext cx="6934320" cy="361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rPr>
              <a:t>Question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23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Verdana"/>
              </a:rPr>
              <a:t>What does an irresistible programme look like?</a:t>
            </a:r>
            <a:endParaRPr b="0" lang="en-US" sz="4500" spc="-1" strike="noStrike">
              <a:solidFill>
                <a:srgbClr val="000000"/>
              </a:solidFill>
              <a:latin typeface="Verdana"/>
            </a:endParaRPr>
          </a:p>
        </p:txBody>
      </p:sp>
      <p:sp>
        <p:nvSpPr>
          <p:cNvPr id="49" name="TextBox 3"/>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1844640"/>
            <a:ext cx="77058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1 Outcomes – An irresistible programme...</a:t>
            </a:r>
            <a:endParaRPr b="0" lang="en-US" sz="2400" spc="-1" strike="noStrike">
              <a:solidFill>
                <a:srgbClr val="000000"/>
              </a:solidFill>
              <a:latin typeface="Verdana"/>
            </a:endParaRPr>
          </a:p>
        </p:txBody>
      </p:sp>
      <p:sp>
        <p:nvSpPr>
          <p:cNvPr id="51" name=""/>
          <p:cNvSpPr txBox="1"/>
          <p:nvPr/>
        </p:nvSpPr>
        <p:spPr>
          <a:xfrm>
            <a:off x="1115640" y="2491920"/>
            <a:ext cx="3390840" cy="37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balanc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shes them out of their comfort zo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s their skills and confide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challeng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gnises and celebrates their achieve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es them running their own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ets the Explorers needs and expectations</a:t>
            </a:r>
            <a:endParaRPr b="0" lang="en-US" sz="1800" spc="-1" strike="noStrike">
              <a:solidFill>
                <a:srgbClr val="000000"/>
              </a:solidFill>
              <a:latin typeface="Arial"/>
            </a:endParaRPr>
          </a:p>
        </p:txBody>
      </p:sp>
      <p:sp>
        <p:nvSpPr>
          <p:cNvPr id="52" name=""/>
          <p:cNvSpPr txBox="1"/>
          <p:nvPr/>
        </p:nvSpPr>
        <p:spPr>
          <a:xfrm>
            <a:off x="4571640" y="2491920"/>
            <a:ext cx="3490920" cy="3745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suggested/organised by the Explorers themselv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es both indoor and outdoor activit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nteres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FU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varied to keep their interes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review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society skill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s them BE EXPLORE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es an irresistible programme look like?</a:t>
            </a:r>
            <a:endParaRPr b="0" lang="en-US" sz="2000" spc="-1" strike="noStrike">
              <a:solidFill>
                <a:srgbClr val="000000"/>
              </a:solidFill>
              <a:latin typeface="Verdana"/>
            </a:endParaRPr>
          </a:p>
        </p:txBody>
      </p:sp>
      <p:sp>
        <p:nvSpPr>
          <p:cNvPr id="54" name=""/>
          <p:cNvSpPr txBox="1"/>
          <p:nvPr/>
        </p:nvSpPr>
        <p:spPr>
          <a:xfrm>
            <a:off x="1066680" y="2437920"/>
            <a:ext cx="693432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ing Adven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th led in </a:t>
            </a:r>
            <a:r>
              <a:rPr b="1" lang="en-US" sz="2800" spc="-1" strike="noStrike" u="sng">
                <a:solidFill>
                  <a:srgbClr val="000000"/>
                </a:solidFill>
                <a:uFillTx/>
                <a:latin typeface="Arial"/>
              </a:rPr>
              <a:t>partnership</a:t>
            </a:r>
            <a:r>
              <a:rPr b="0" lang="en-US" sz="2800" spc="-1" strike="noStrike">
                <a:solidFill>
                  <a:srgbClr val="000000"/>
                </a:solidFill>
                <a:latin typeface="Arial"/>
              </a:rPr>
              <a:t> with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 for the leaders &amp;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5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How do we deliver an irresistible programme?</a:t>
            </a:r>
            <a:endParaRPr b="0" lang="en-US" sz="4400" spc="-1" strike="noStrike">
              <a:solidFill>
                <a:srgbClr val="000000"/>
              </a:solidFill>
              <a:latin typeface="Verdana"/>
            </a:endParaRPr>
          </a:p>
        </p:txBody>
      </p:sp>
      <p:sp>
        <p:nvSpPr>
          <p:cNvPr id="56" name="TextBox 4"/>
          <p:cNvSpPr/>
          <p:nvPr/>
        </p:nvSpPr>
        <p:spPr>
          <a:xfrm>
            <a:off x="684360" y="1887480"/>
            <a:ext cx="244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42920" y="184464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Task 2 Outcomes – How we deliver an irresistible programme...</a:t>
            </a:r>
            <a:endParaRPr b="0" lang="en-US" sz="2400" spc="-1" strike="noStrike">
              <a:solidFill>
                <a:srgbClr val="000000"/>
              </a:solidFill>
              <a:latin typeface="Verdana"/>
            </a:endParaRPr>
          </a:p>
        </p:txBody>
      </p:sp>
      <p:sp>
        <p:nvSpPr>
          <p:cNvPr id="58" name=""/>
          <p:cNvSpPr txBox="1"/>
          <p:nvPr/>
        </p:nvSpPr>
        <p:spPr>
          <a:xfrm>
            <a:off x="1042560" y="2491920"/>
            <a:ext cx="3390840" cy="4032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other people who have specialist skills/knowledge to come into the Uni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ive yourself adequate time to pla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a framework for your programme so all areas are being cover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n, prepare, execute &amp; coa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ild on previous knowled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ld regular Leader meeting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 progressive, not afraid of chang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txBox="1"/>
          <p:nvPr/>
        </p:nvSpPr>
        <p:spPr>
          <a:xfrm>
            <a:off x="4571640" y="2491920"/>
            <a:ext cx="3390840" cy="40323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liver on promis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ive the Explorers all the options/opportunities to let them select what they 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gage with the Explorer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 your researc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the programme regular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Fail in a controlled environment” – don’t be afraid to try new things, they might not work but if you prepare for all outcomes then if it doesn’t go to plan then you always have a Option 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llenging Adventure</a:t>
            </a:r>
            <a:endParaRPr b="0" lang="en-US" sz="2800" spc="-1" strike="noStrike">
              <a:solidFill>
                <a:srgbClr val="000000"/>
              </a:solidFill>
              <a:latin typeface="Verdana"/>
            </a:endParaRPr>
          </a:p>
        </p:txBody>
      </p:sp>
      <p:sp>
        <p:nvSpPr>
          <p:cNvPr id="61" name=""/>
          <p:cNvSpPr txBox="1"/>
          <p:nvPr/>
        </p:nvSpPr>
        <p:spPr>
          <a:xfrm>
            <a:off x="1066680" y="2437920"/>
            <a:ext cx="6934320" cy="3048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r (and tougher) is bette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nturous Activiti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ing</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y &amp; National Event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c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tal Stim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mping</a:t>
            </a:r>
            <a:endParaRPr b="0" lang="en-US" sz="2800" spc="-1" strike="noStrike">
              <a:solidFill>
                <a:srgbClr val="000000"/>
              </a:solidFill>
              <a:latin typeface="Verdana"/>
            </a:endParaRPr>
          </a:p>
        </p:txBody>
      </p:sp>
      <p:sp>
        <p:nvSpPr>
          <p:cNvPr id="63"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er Cam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rol Style Cam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 planned and ra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ture of age ra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leaders most of the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event passport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3">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3">
                                            <p:txEl>
                                              <p:pRg st="3" end="3"/>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3">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3:26:03Z</dcterms:created>
  <dc:creator>Office 2004 Test Drive User</dc:creator>
  <dc:description/>
  <dc:language>en-US</dc:language>
  <cp:lastModifiedBy>hlapworth</cp:lastModifiedBy>
  <dcterms:modified xsi:type="dcterms:W3CDTF">2013-03-06T14:18:08Z</dcterms:modified>
  <cp:revision>205</cp:revision>
  <dc:subject/>
  <dc:title>Your title here</dc:title>
</cp:coreProperties>
</file>